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FF94-CE34-4287-92F3-AE8C418A4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E707-23CA-42E9-A648-B13A104CD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5626-B466-42D1-B541-ED4D5EFDF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A632-D532-47A4-892C-F2ED8B9ED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956E5-93B3-42F7-8E71-4FEB97FB8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14DF8-4B58-4B18-8E55-0D8686DA7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990E0-4430-4A0F-A5E2-EDBE73389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714E4-155F-4F79-A0E1-18A50ED25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6A3A8-CCB7-476D-8805-C7AB548B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39D51-1668-44D0-92FB-1A18DBDE2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D699B-B2F2-4324-BC34-330AFC7A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85C5-AAE6-4640-8AB9-917B54DCD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EB81E-AEF7-4A79-B854-40E72385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C5B77-9598-45CD-8CEE-9647022F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81D16-5B1F-41E4-AD5B-B42498C54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E9A87-223B-4FF9-9625-BDC2BB4BF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0A7DB-6FDE-48FA-A994-2DD82EBB2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7E61-877F-42BB-8CDB-845CD396F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105A-1EE9-491D-9580-74A734B43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2659-7E65-4A89-AC06-FD20AD3A8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CB06-852F-4A60-B71C-A29B1D733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47D8-D55C-449E-805E-2E822491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1696-5694-4B74-889A-4D44F7EC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5864-7465-45C3-AFE0-A1988F0E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10E61-BD8F-4831-9D51-0740765037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497C9-21BB-4440-9162-A051B7DDB5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28600" y="68580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60036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92720" y="685800"/>
            <a:ext cx="3990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Constituição de 1946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1752480"/>
            <a:ext cx="8686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t. 15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 aproveitamento dos recursos minerais e de energia hidráulica depende de autorização ou concessão federal, na forma da le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§ 1°. As autorizações ou concessões serão conferidas exclusivamente a brasileiros ou a sociedade organizadas no país, assegurada ao proprietário do solo preferência para a exploração. Os direitos de preferência do proprietário do solo, quanto às minas e jazidas, serão regulados de acordo com a natureza del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934400" y="64911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8600" y="990720"/>
            <a:ext cx="8702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§ 2°. Não dependerá de autorização ou concessão o aproveitamento de energia hidráulica de potência reduzi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§ 3°. Satisfeita as condições exigidas pela lei, entre as quais a de possuírem os necessários serviços técnicos e administrativos, os estados passarão a exercer nos seus territórios a atribuição constante deste artig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§ 4°. A União, nos caso de interesse geral indicados em lei, auxiliará os estados nos estudos referentes às águas termominerais de aplicação medicinal e no aparelhamento das estâncias destinadas ao uso del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19:45:56Z</dcterms:created>
  <dc:creator>Alexandre Braule</dc:creator>
  <dc:description/>
  <dc:language>en-US</dc:language>
  <cp:lastModifiedBy>Alexandre Braule</cp:lastModifiedBy>
  <dcterms:modified xsi:type="dcterms:W3CDTF">2004-08-10T18:49:54Z</dcterms:modified>
  <cp:revision>76</cp:revision>
  <dc:subject/>
  <dc:title>Apresentação do PowerPoint</dc:title>
</cp:coreProperties>
</file>